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A6F-FDE7-412E-9E61-3DF860B1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F4C-23AD-4D62-BB8E-29884070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D28-EC35-491E-81EC-616CD394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04C-8FBC-4747-843F-EFB75315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3B5-7471-448F-A1F8-BBAEA2EB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048-9F1E-480E-B244-FBB94A58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4D9-45B5-456A-A6E9-44738DB7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F2E-32CF-4CF2-B5B0-1758487C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0D3-13BD-4D8C-8A5D-5C726113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3D6-F801-405A-BAF1-7FD9F12D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3CD-4699-4140-A2B0-73A8280F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AC8-21D6-489F-96AC-AAF0A80A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BF82-0698-4419-848B-10A494594AFC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nakehiss2.wav" TargetMode="External"/><Relationship Id="rId2" Type="http://schemas.openxmlformats.org/officeDocument/2006/relationships/image" Target="../media/image12.jpeg"/><Relationship Id="rId3" Type="http://schemas.openxmlformats.org/officeDocument/2006/relationships/hyperlink" Target="file:///tmp/home/.config/libreoffice/4/user/gallery/BIRD2.WAV" TargetMode="External"/><Relationship Id="rId4" Type="http://schemas.openxmlformats.org/officeDocument/2006/relationships/image" Target="../media/image12.jpeg"/><Relationship Id="rId5" Type="http://schemas.openxmlformats.org/officeDocument/2006/relationships/hyperlink" Target="file:///tmp/home/.config/libreoffice/4/user/gallery/Sound%20Effect%20-%20Frog%20Croak.wav" TargetMode="External"/><Relationship Id="rId6" Type="http://schemas.openxmlformats.org/officeDocument/2006/relationships/image" Target="../media/image12.jpeg"/><Relationship Id="rId7" Type="http://schemas.openxmlformats.org/officeDocument/2006/relationships/hyperlink" Target="file:///tmp/home/.config/libreoffice/4/user/gallery/PIG1.WAV" TargetMode="External"/><Relationship Id="rId8" Type="http://schemas.openxmlformats.org/officeDocument/2006/relationships/image" Target="../media/image12.jpeg"/><Relationship Id="rId9" Type="http://schemas.openxmlformats.org/officeDocument/2006/relationships/hyperlink" Target="file:///tmp/home/.config/libreoffice/4/user/gallery/Duck-quacking%20animals038.wav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file:///tmp/home/.config/libreoffice/4/user/gallery/Sheep%20animals057.wav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file:///tmp/home/.config/libreoffice/4/user/gallery/Dog%20animals080.wav" TargetMode="External"/><Relationship Id="rId14" Type="http://schemas.openxmlformats.org/officeDocument/2006/relationships/image" Target="../media/image13.png"/><Relationship Id="rId15" Type="http://schemas.openxmlformats.org/officeDocument/2006/relationships/hyperlink" Target="file:///tmp/home/.config/libreoffice/4/user/gallery/HORSE.WAV" TargetMode="External"/><Relationship Id="rId16" Type="http://schemas.openxmlformats.org/officeDocument/2006/relationships/image" Target="../media/image14.png"/><Relationship Id="rId17" Type="http://schemas.openxmlformats.org/officeDocument/2006/relationships/hyperlink" Target="file:///tmp/home/.config/libreoffice/4/user/gallery/ROOSTER1.WAV" TargetMode="External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191120" y="1828800"/>
            <a:ext cx="1839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www.ucdavis.edu/images/features_level2/0208/cat1.jpg"/>
          <p:cNvPicPr/>
          <p:nvPr/>
        </p:nvPicPr>
        <p:blipFill>
          <a:blip r:embed="rId1"/>
          <a:stretch/>
        </p:blipFill>
        <p:spPr>
          <a:xfrm>
            <a:off x="0" y="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62240" y="5749920"/>
            <a:ext cx="380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meow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954320" y="4267080"/>
            <a:ext cx="255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ow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899280" y="4343400"/>
            <a:ext cx="248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arf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5263920" y="5749920"/>
            <a:ext cx="287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eee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Rectangular Callout 14"/>
          <p:cNvSpPr/>
          <p:nvPr/>
        </p:nvSpPr>
        <p:spPr>
          <a:xfrm>
            <a:off x="4038480" y="228600"/>
            <a:ext cx="4876920" cy="2895480"/>
          </a:xfrm>
          <a:prstGeom prst="wedgeRectCallout">
            <a:avLst>
              <a:gd name="adj1" fmla="val -58217"/>
              <a:gd name="adj2" fmla="val -19699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talk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ucdavis.edu/images/features_level2/0208/cat1.jpg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ular Callout 4"/>
          <p:cNvSpPr/>
          <p:nvPr/>
        </p:nvSpPr>
        <p:spPr>
          <a:xfrm>
            <a:off x="3962520" y="685800"/>
            <a:ext cx="4876560" cy="2895480"/>
          </a:xfrm>
          <a:prstGeom prst="wedgeRectCallout">
            <a:avLst>
              <a:gd name="adj1" fmla="val -62907"/>
              <a:gd name="adj2" fmla="val 40208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840840" y="1371600"/>
            <a:ext cx="511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. meow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kikolani.com/wp-content/uploads/2009/02/bird.jpg"/>
          <p:cNvPicPr/>
          <p:nvPr/>
        </p:nvPicPr>
        <p:blipFill>
          <a:blip r:embed="rId1"/>
          <a:stretch/>
        </p:blipFill>
        <p:spPr>
          <a:xfrm>
            <a:off x="457200" y="1295280"/>
            <a:ext cx="3505320" cy="3122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29480" y="5562720"/>
            <a:ext cx="326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eeee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5177880" y="4267080"/>
            <a:ext cx="339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chirp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452160" y="4343400"/>
            <a:ext cx="373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quac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5042520" y="5749920"/>
            <a:ext cx="344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cluc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Rectangular Callout 14"/>
          <p:cNvSpPr/>
          <p:nvPr/>
        </p:nvSpPr>
        <p:spPr>
          <a:xfrm>
            <a:off x="4038480" y="609480"/>
            <a:ext cx="4876920" cy="2895840"/>
          </a:xfrm>
          <a:prstGeom prst="wedgeRectCallout">
            <a:avLst>
              <a:gd name="adj1" fmla="val -56763"/>
              <a:gd name="adj2" fmla="val -215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sing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ular Callout 4"/>
          <p:cNvSpPr/>
          <p:nvPr/>
        </p:nvSpPr>
        <p:spPr>
          <a:xfrm>
            <a:off x="3657600" y="228600"/>
            <a:ext cx="5257800" cy="3733920"/>
          </a:xfrm>
          <a:prstGeom prst="wedgeRectCallout">
            <a:avLst>
              <a:gd name="adj1" fmla="val -57666"/>
              <a:gd name="adj2" fmla="val 41601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6" name="Picture 2" descr="http://kikolani.com/wp-content/uploads/2009/02/bird.jpg"/>
          <p:cNvPicPr/>
          <p:nvPr/>
        </p:nvPicPr>
        <p:blipFill>
          <a:blip r:embed="rId1"/>
          <a:stretch/>
        </p:blipFill>
        <p:spPr>
          <a:xfrm>
            <a:off x="0" y="3735360"/>
            <a:ext cx="3505320" cy="3122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3657600" y="144792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oadway"/>
              </a:rPr>
              <a:t>B. chirp!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mygtv.net/wp-content/uploads/2009/02/happy_cow_large.jpg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4095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280440" y="5749920"/>
            <a:ext cx="34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um-o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989960" y="4267080"/>
            <a:ext cx="343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hooo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316800" y="4343400"/>
            <a:ext cx="318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moo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184720" y="5749920"/>
            <a:ext cx="28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few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Rectangular Callout 14"/>
          <p:cNvSpPr/>
          <p:nvPr/>
        </p:nvSpPr>
        <p:spPr>
          <a:xfrm>
            <a:off x="152280" y="380880"/>
            <a:ext cx="4267440" cy="2895840"/>
          </a:xfrm>
          <a:prstGeom prst="wedgeRectCallout">
            <a:avLst>
              <a:gd name="adj1" fmla="val 63185"/>
              <a:gd name="adj2" fmla="val 25814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say hello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ular Callout 4"/>
          <p:cNvSpPr/>
          <p:nvPr/>
        </p:nvSpPr>
        <p:spPr>
          <a:xfrm>
            <a:off x="228600" y="1828800"/>
            <a:ext cx="3048120" cy="2895480"/>
          </a:xfrm>
          <a:prstGeom prst="wedgeRectCallout">
            <a:avLst>
              <a:gd name="adj1" fmla="val 77662"/>
              <a:gd name="adj2" fmla="val 32314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9" name="Picture 2" descr="http://www.mygtv.net/wp-content/uploads/2009/02/happy_cow_large.jpg"/>
          <p:cNvPicPr/>
          <p:nvPr/>
        </p:nvPicPr>
        <p:blipFill>
          <a:blip r:embed="rId1"/>
          <a:stretch/>
        </p:blipFill>
        <p:spPr>
          <a:xfrm>
            <a:off x="4343400" y="304920"/>
            <a:ext cx="4518000" cy="61722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164520" y="2743200"/>
            <a:ext cx="318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moo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ucdavis.edu/images/features_level2/0208/cat1.jpg"/>
          <p:cNvPicPr/>
          <p:nvPr/>
        </p:nvPicPr>
        <p:blipFill>
          <a:blip r:embed="rId1"/>
          <a:stretch/>
        </p:blipFill>
        <p:spPr>
          <a:xfrm>
            <a:off x="-76320" y="41911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marcdeckter.com/blog/2008/06_June/AFLAC/aflac_duck_2.jpg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2590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 u="sng">
                <a:solidFill>
                  <a:srgbClr val="000000"/>
                </a:solidFill>
                <a:uFillTx/>
                <a:latin typeface="Comic Sans MS"/>
              </a:rPr>
              <a:t>Animal</a:t>
            </a:r>
            <a:r>
              <a:rPr b="0" lang="en-US" sz="10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800" spc="-1" strike="noStrike" u="sng">
                <a:solidFill>
                  <a:srgbClr val="000000"/>
                </a:solidFill>
                <a:uFillTx/>
                <a:latin typeface="Comic Sans MS"/>
              </a:rPr>
              <a:t>Noises</a:t>
            </a:r>
            <a:endParaRPr b="0" lang="en-US" sz="10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www.mydogneeds.com/dog-groups/herding-dogs/german-shepherd-dog.jpg"/>
          <p:cNvPicPr/>
          <p:nvPr/>
        </p:nvPicPr>
        <p:blipFill>
          <a:blip r:embed="rId1"/>
          <a:stretch/>
        </p:blipFill>
        <p:spPr>
          <a:xfrm>
            <a:off x="0" y="0"/>
            <a:ext cx="441972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6840" y="5749920"/>
            <a:ext cx="315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bar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5018400" y="4267080"/>
            <a:ext cx="358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meow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-18000" y="4267080"/>
            <a:ext cx="491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Bow wow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904640" y="5749920"/>
            <a:ext cx="319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woof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Rectangular Callout 14"/>
          <p:cNvSpPr/>
          <p:nvPr/>
        </p:nvSpPr>
        <p:spPr>
          <a:xfrm>
            <a:off x="4267080" y="533520"/>
            <a:ext cx="4876920" cy="2895480"/>
          </a:xfrm>
          <a:prstGeom prst="wedgeRectCallout">
            <a:avLst>
              <a:gd name="adj1" fmla="val -55185"/>
              <a:gd name="adj2" fmla="val -23412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HAT DO I SAY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www.mydogneeds.com/dog-groups/herding-dogs/german-shepherd-dog.jpg"/>
          <p:cNvPicPr/>
          <p:nvPr/>
        </p:nvPicPr>
        <p:blipFill>
          <a:blip r:embed="rId1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ular Callout 4"/>
          <p:cNvSpPr/>
          <p:nvPr/>
        </p:nvSpPr>
        <p:spPr>
          <a:xfrm>
            <a:off x="4038480" y="228600"/>
            <a:ext cx="4876920" cy="6400800"/>
          </a:xfrm>
          <a:prstGeom prst="wedgeRectCallout">
            <a:avLst>
              <a:gd name="adj1" fmla="val -60148"/>
              <a:gd name="adj2" fmla="val -14587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381200" y="5029200"/>
            <a:ext cx="419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Jokerman"/>
              </a:rPr>
              <a:t>D. woof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776400" y="533520"/>
            <a:ext cx="534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rlow Solid Italic"/>
              </a:rPr>
              <a:t>A. Bow wow</a:t>
            </a:r>
            <a:endParaRPr b="0" lang="en-US" sz="7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945400" y="1600200"/>
            <a:ext cx="103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876560" y="2666880"/>
            <a:ext cx="315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bar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6021720" y="4038480"/>
            <a:ext cx="103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dclips.fundraw.com/zobo500dir/creohn_Sheep_in_gray.jpg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358200" y="5749920"/>
            <a:ext cx="339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neigh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5310720" y="4267080"/>
            <a:ext cx="30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daaa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464040" y="4267080"/>
            <a:ext cx="308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naaa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5162760" y="5749920"/>
            <a:ext cx="316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baaa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Rectangular Callout 14"/>
          <p:cNvSpPr/>
          <p:nvPr/>
        </p:nvSpPr>
        <p:spPr>
          <a:xfrm>
            <a:off x="228600" y="457200"/>
            <a:ext cx="4267080" cy="2895480"/>
          </a:xfrm>
          <a:prstGeom prst="wedgeRectCallout">
            <a:avLst>
              <a:gd name="adj1" fmla="val 58453"/>
              <a:gd name="adj2" fmla="val -10412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speak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dclips.fundraw.com/zobo500dir/creohn_Sheep_in_gray.jpg"/>
          <p:cNvPicPr/>
          <p:nvPr/>
        </p:nvPicPr>
        <p:blipFill>
          <a:blip r:embed="rId1"/>
          <a:stretch/>
        </p:blipFill>
        <p:spPr>
          <a:xfrm>
            <a:off x="4964040" y="1219320"/>
            <a:ext cx="417996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ular Callout 4"/>
          <p:cNvSpPr/>
          <p:nvPr/>
        </p:nvSpPr>
        <p:spPr>
          <a:xfrm>
            <a:off x="152280" y="2819520"/>
            <a:ext cx="4876920" cy="2895480"/>
          </a:xfrm>
          <a:prstGeom prst="wedgeRectCallout">
            <a:avLst>
              <a:gd name="adj1" fmla="val 56763"/>
              <a:gd name="adj2" fmla="val -32236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304920" y="3505320"/>
            <a:ext cx="48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Jokerman"/>
              </a:rPr>
              <a:t>D. baaa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letmecolor.com/wp-content/uploads/2007/09/horse_coloring_page_12133.gif"/>
          <p:cNvPicPr/>
          <p:nvPr/>
        </p:nvPicPr>
        <p:blipFill>
          <a:blip r:embed="rId1"/>
          <a:stretch/>
        </p:blipFill>
        <p:spPr>
          <a:xfrm>
            <a:off x="-457200" y="-152280"/>
            <a:ext cx="5079960" cy="5029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48280" y="5749920"/>
            <a:ext cx="276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rrrr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5095440" y="4267080"/>
            <a:ext cx="363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neigh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303480" y="4267080"/>
            <a:ext cx="327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veen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848480" y="5791320"/>
            <a:ext cx="43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Jokerman"/>
              </a:rPr>
              <a:t>D. Bow wow!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Rectangular Callout 14"/>
          <p:cNvSpPr/>
          <p:nvPr/>
        </p:nvSpPr>
        <p:spPr>
          <a:xfrm>
            <a:off x="3962520" y="380880"/>
            <a:ext cx="4876560" cy="2895840"/>
          </a:xfrm>
          <a:prstGeom prst="wedgeRectCallout">
            <a:avLst>
              <a:gd name="adj1" fmla="val -56564"/>
              <a:gd name="adj2" fmla="val -14587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say hello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www.letmecolor.com/wp-content/uploads/2007/09/horse_coloring_page_12133.gif"/>
          <p:cNvPicPr/>
          <p:nvPr/>
        </p:nvPicPr>
        <p:blipFill>
          <a:blip r:embed="rId1"/>
          <a:stretch/>
        </p:blipFill>
        <p:spPr>
          <a:xfrm>
            <a:off x="-228600" y="2666880"/>
            <a:ext cx="5079960" cy="5029200"/>
          </a:xfrm>
          <a:prstGeom prst="rect">
            <a:avLst/>
          </a:prstGeom>
          <a:ln w="0">
            <a:noFill/>
          </a:ln>
        </p:spPr>
      </p:pic>
      <p:sp>
        <p:nvSpPr>
          <p:cNvPr id="152" name="Rectangular Callout 4"/>
          <p:cNvSpPr/>
          <p:nvPr/>
        </p:nvSpPr>
        <p:spPr>
          <a:xfrm>
            <a:off x="4114800" y="838080"/>
            <a:ext cx="4876920" cy="2895840"/>
          </a:xfrm>
          <a:prstGeom prst="wedgeRectCallout">
            <a:avLst>
              <a:gd name="adj1" fmla="val -56837"/>
              <a:gd name="adj2" fmla="val 65750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4423680" y="1600200"/>
            <a:ext cx="436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oadway"/>
              </a:rPr>
              <a:t>B. neigh!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gujoron.com/xe/files/attach/images/161/774/133/cobra-snake-plastic-f450.jpg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4172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456480" y="5749920"/>
            <a:ext cx="306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oin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4945320" y="4267080"/>
            <a:ext cx="339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sssss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16360" y="4343400"/>
            <a:ext cx="275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tis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935960" y="5749920"/>
            <a:ext cx="405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nnnnn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Rectangular Callout 14"/>
          <p:cNvSpPr/>
          <p:nvPr/>
        </p:nvSpPr>
        <p:spPr>
          <a:xfrm>
            <a:off x="228600" y="152280"/>
            <a:ext cx="4267080" cy="221004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talk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0" y="0"/>
            <a:ext cx="91440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Round 1: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Multiple Choice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gujoron.com/xe/files/attach/images/161/774/133/cobra-snake-plastic-f450.jpg"/>
          <p:cNvPicPr/>
          <p:nvPr/>
        </p:nvPicPr>
        <p:blipFill>
          <a:blip r:embed="rId1"/>
          <a:stretch/>
        </p:blipFill>
        <p:spPr>
          <a:xfrm>
            <a:off x="3657600" y="609480"/>
            <a:ext cx="5181480" cy="5924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ular Callout 4"/>
          <p:cNvSpPr/>
          <p:nvPr/>
        </p:nvSpPr>
        <p:spPr>
          <a:xfrm>
            <a:off x="228600" y="990720"/>
            <a:ext cx="4876920" cy="289548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417960" y="1676520"/>
            <a:ext cx="447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roadway"/>
              </a:rPr>
              <a:t>B. sssss!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4119480" y="182880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http://marcdeckter.com/blog/2008/06_June/AFLAC/aflac_duck_2.jpg"/>
          <p:cNvPicPr/>
          <p:nvPr/>
        </p:nvPicPr>
        <p:blipFill>
          <a:blip r:embed="rId1"/>
          <a:stretch/>
        </p:blipFill>
        <p:spPr>
          <a:xfrm>
            <a:off x="5105520" y="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534960" y="5749920"/>
            <a:ext cx="299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keek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439960" y="4267080"/>
            <a:ext cx="296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yuck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594360" y="4267080"/>
            <a:ext cx="351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quack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5169600" y="5749920"/>
            <a:ext cx="306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acko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Rectangular Callout 14"/>
          <p:cNvSpPr/>
          <p:nvPr/>
        </p:nvSpPr>
        <p:spPr>
          <a:xfrm>
            <a:off x="838080" y="380880"/>
            <a:ext cx="4876920" cy="289584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HAT DO I SAY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http://marcdeckter.com/blog/2008/06_June/AFLAC/aflac_duck_2.jpg"/>
          <p:cNvPicPr/>
          <p:nvPr/>
        </p:nvPicPr>
        <p:blipFill>
          <a:blip r:embed="rId1"/>
          <a:stretch/>
        </p:blipFill>
        <p:spPr>
          <a:xfrm>
            <a:off x="388620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178" name="Rectangular Callout 4"/>
          <p:cNvSpPr/>
          <p:nvPr/>
        </p:nvSpPr>
        <p:spPr>
          <a:xfrm>
            <a:off x="457200" y="990720"/>
            <a:ext cx="4876920" cy="289548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399600" y="1600200"/>
            <a:ext cx="502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arlow Solid Italic"/>
              </a:rPr>
              <a:t>A. quack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3979080" y="182880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867280" y="380880"/>
            <a:ext cx="3019680" cy="2934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42440" y="5749920"/>
            <a:ext cx="335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gilgul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5356440" y="4267080"/>
            <a:ext cx="285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oink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752400" y="4267080"/>
            <a:ext cx="3100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rribit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5267520" y="5749920"/>
            <a:ext cx="274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errr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Rectangular Callout 14"/>
          <p:cNvSpPr/>
          <p:nvPr/>
        </p:nvSpPr>
        <p:spPr>
          <a:xfrm>
            <a:off x="838080" y="380880"/>
            <a:ext cx="4876920" cy="289584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HAT DO I SAY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62720" y="380880"/>
            <a:ext cx="3324240" cy="4419720"/>
          </a:xfrm>
          <a:prstGeom prst="rect">
            <a:avLst/>
          </a:prstGeom>
          <a:ln w="0">
            <a:noFill/>
          </a:ln>
        </p:spPr>
      </p:pic>
      <p:sp>
        <p:nvSpPr>
          <p:cNvPr id="191" name="Rectangular Callout 4"/>
          <p:cNvSpPr/>
          <p:nvPr/>
        </p:nvSpPr>
        <p:spPr>
          <a:xfrm>
            <a:off x="457200" y="990720"/>
            <a:ext cx="4876920" cy="289548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630000" y="1600200"/>
            <a:ext cx="442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arlow Solid Italic"/>
              </a:rPr>
              <a:t>A. rribit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0" y="0"/>
            <a:ext cx="91440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Round 2: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SPEED GAME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www.eslpod.com/eslpod_blog/wp-content/uploads/2008/05/pig-thumb.jpg"/>
          <p:cNvPicPr/>
          <p:nvPr/>
        </p:nvPicPr>
        <p:blipFill>
          <a:blip r:embed="rId1"/>
          <a:stretch/>
        </p:blipFill>
        <p:spPr>
          <a:xfrm>
            <a:off x="0" y="0"/>
            <a:ext cx="47592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ular Callout 4"/>
          <p:cNvSpPr/>
          <p:nvPr/>
        </p:nvSpPr>
        <p:spPr>
          <a:xfrm>
            <a:off x="5105520" y="1295280"/>
            <a:ext cx="3733560" cy="2895840"/>
          </a:xfrm>
          <a:prstGeom prst="wedgeRectCallout">
            <a:avLst>
              <a:gd name="adj1" fmla="val -69532"/>
              <a:gd name="adj2" fmla="val 25347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5051880" y="2133720"/>
            <a:ext cx="331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oink!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mrana.typepad.com/bitbybit/images/2007/11/18/171rooster_3.jpg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ular Callout 4"/>
          <p:cNvSpPr/>
          <p:nvPr/>
        </p:nvSpPr>
        <p:spPr>
          <a:xfrm>
            <a:off x="152280" y="990720"/>
            <a:ext cx="4876920" cy="2895480"/>
          </a:xfrm>
          <a:prstGeom prst="wedgeRectCallout">
            <a:avLst>
              <a:gd name="adj1" fmla="val 60347"/>
              <a:gd name="adj2" fmla="val -25736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152280" y="990720"/>
            <a:ext cx="4876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Harlow Solid Italic"/>
              </a:rPr>
              <a:t>cockle-doodle-do!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408996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ttp://www.ucdavis.edu/images/features_level2/0208/cat1.jpg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ular Callout 4"/>
          <p:cNvSpPr/>
          <p:nvPr/>
        </p:nvSpPr>
        <p:spPr>
          <a:xfrm>
            <a:off x="3962520" y="685800"/>
            <a:ext cx="4876560" cy="2895480"/>
          </a:xfrm>
          <a:prstGeom prst="wedgeRectCallout">
            <a:avLst>
              <a:gd name="adj1" fmla="val -62907"/>
              <a:gd name="adj2" fmla="val 40208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3896280" y="1371600"/>
            <a:ext cx="465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meow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ular Callout 4"/>
          <p:cNvSpPr/>
          <p:nvPr/>
        </p:nvSpPr>
        <p:spPr>
          <a:xfrm>
            <a:off x="3657600" y="228600"/>
            <a:ext cx="5257800" cy="3733920"/>
          </a:xfrm>
          <a:prstGeom prst="wedgeRectCallout">
            <a:avLst>
              <a:gd name="adj1" fmla="val -57666"/>
              <a:gd name="adj2" fmla="val 41601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04" name="Picture 2" descr="http://kikolani.com/wp-content/uploads/2009/02/bird.jpg"/>
          <p:cNvPicPr/>
          <p:nvPr/>
        </p:nvPicPr>
        <p:blipFill>
          <a:blip r:embed="rId1"/>
          <a:stretch/>
        </p:blipFill>
        <p:spPr>
          <a:xfrm>
            <a:off x="0" y="3735360"/>
            <a:ext cx="3505320" cy="31226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6"/>
          <p:cNvSpPr/>
          <p:nvPr/>
        </p:nvSpPr>
        <p:spPr>
          <a:xfrm>
            <a:off x="3657600" y="144792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oadway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Broadway"/>
              </a:rPr>
              <a:t>chirp!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ular Callout 4"/>
          <p:cNvSpPr/>
          <p:nvPr/>
        </p:nvSpPr>
        <p:spPr>
          <a:xfrm>
            <a:off x="228600" y="1828800"/>
            <a:ext cx="3048120" cy="2895480"/>
          </a:xfrm>
          <a:prstGeom prst="wedgeRectCallout">
            <a:avLst>
              <a:gd name="adj1" fmla="val 77662"/>
              <a:gd name="adj2" fmla="val 32314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07" name="Picture 2" descr="http://www.mygtv.net/wp-content/uploads/2009/02/happy_cow_large.jpg"/>
          <p:cNvPicPr/>
          <p:nvPr/>
        </p:nvPicPr>
        <p:blipFill>
          <a:blip r:embed="rId1"/>
          <a:stretch/>
        </p:blipFill>
        <p:spPr>
          <a:xfrm>
            <a:off x="4343400" y="304920"/>
            <a:ext cx="4518000" cy="61722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677520" y="2743200"/>
            <a:ext cx="220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moo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http://www.mydogneeds.com/dog-groups/herding-dogs/german-shepherd-dog.jpg"/>
          <p:cNvPicPr/>
          <p:nvPr/>
        </p:nvPicPr>
        <p:blipFill>
          <a:blip r:embed="rId1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ular Callout 4"/>
          <p:cNvSpPr/>
          <p:nvPr/>
        </p:nvSpPr>
        <p:spPr>
          <a:xfrm>
            <a:off x="4114800" y="762120"/>
            <a:ext cx="4876920" cy="2666880"/>
          </a:xfrm>
          <a:prstGeom prst="wedgeRectCallout">
            <a:avLst>
              <a:gd name="adj1" fmla="val -61717"/>
              <a:gd name="adj2" fmla="val 15000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4606920" y="1371600"/>
            <a:ext cx="26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rlow Solid Italic"/>
              </a:rPr>
              <a:t>Bark!!</a:t>
            </a:r>
            <a:endParaRPr b="0" lang="en-US" sz="7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://dclips.fundraw.com/zobo500dir/creohn_Sheep_in_gray.jpg"/>
          <p:cNvPicPr/>
          <p:nvPr/>
        </p:nvPicPr>
        <p:blipFill>
          <a:blip r:embed="rId1"/>
          <a:stretch/>
        </p:blipFill>
        <p:spPr>
          <a:xfrm>
            <a:off x="4964040" y="1219320"/>
            <a:ext cx="4179960" cy="3886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ular Callout 4"/>
          <p:cNvSpPr/>
          <p:nvPr/>
        </p:nvSpPr>
        <p:spPr>
          <a:xfrm>
            <a:off x="152280" y="2819520"/>
            <a:ext cx="4876920" cy="2895480"/>
          </a:xfrm>
          <a:prstGeom prst="wedgeRectCallout">
            <a:avLst>
              <a:gd name="adj1" fmla="val 56763"/>
              <a:gd name="adj2" fmla="val -32236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762120" y="3505320"/>
            <a:ext cx="48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Jokerman"/>
              </a:rPr>
              <a:t>baaa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www.letmecolor.com/wp-content/uploads/2007/09/horse_coloring_page_12133.gif"/>
          <p:cNvPicPr/>
          <p:nvPr/>
        </p:nvPicPr>
        <p:blipFill>
          <a:blip r:embed="rId1"/>
          <a:stretch/>
        </p:blipFill>
        <p:spPr>
          <a:xfrm>
            <a:off x="-228600" y="2666880"/>
            <a:ext cx="5079960" cy="5029200"/>
          </a:xfrm>
          <a:prstGeom prst="rect">
            <a:avLst/>
          </a:prstGeom>
          <a:ln w="0">
            <a:noFill/>
          </a:ln>
        </p:spPr>
      </p:pic>
      <p:sp>
        <p:nvSpPr>
          <p:cNvPr id="216" name="Rectangular Callout 4"/>
          <p:cNvSpPr/>
          <p:nvPr/>
        </p:nvSpPr>
        <p:spPr>
          <a:xfrm>
            <a:off x="4114800" y="838080"/>
            <a:ext cx="4876920" cy="2895840"/>
          </a:xfrm>
          <a:prstGeom prst="wedgeRectCallout">
            <a:avLst>
              <a:gd name="adj1" fmla="val -56837"/>
              <a:gd name="adj2" fmla="val 65750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5123160" y="1600200"/>
            <a:ext cx="31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oadway"/>
              </a:rPr>
              <a:t>neigh!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://gujoron.com/xe/files/attach/images/161/774/133/cobra-snake-plastic-f450.jpg"/>
          <p:cNvPicPr/>
          <p:nvPr/>
        </p:nvPicPr>
        <p:blipFill>
          <a:blip r:embed="rId1"/>
          <a:stretch/>
        </p:blipFill>
        <p:spPr>
          <a:xfrm>
            <a:off x="3657600" y="609480"/>
            <a:ext cx="5181480" cy="5924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ular Callout 4"/>
          <p:cNvSpPr/>
          <p:nvPr/>
        </p:nvSpPr>
        <p:spPr>
          <a:xfrm>
            <a:off x="228600" y="990720"/>
            <a:ext cx="4876920" cy="289548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290880" y="1676520"/>
            <a:ext cx="373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Broadway"/>
              </a:rPr>
              <a:t>sssss!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http://marcdeckter.com/blog/2008/06_June/AFLAC/aflac_duck_2.jpg"/>
          <p:cNvPicPr/>
          <p:nvPr/>
        </p:nvPicPr>
        <p:blipFill>
          <a:blip r:embed="rId1"/>
          <a:stretch/>
        </p:blipFill>
        <p:spPr>
          <a:xfrm>
            <a:off x="388620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22" name="Rectangular Callout 4"/>
          <p:cNvSpPr/>
          <p:nvPr/>
        </p:nvSpPr>
        <p:spPr>
          <a:xfrm>
            <a:off x="457200" y="990720"/>
            <a:ext cx="4876920" cy="289548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1213920" y="1676520"/>
            <a:ext cx="360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arlow Solid Italic"/>
              </a:rPr>
              <a:t>quack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0" y="0"/>
            <a:ext cx="91440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Round 3: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Fill in the Blank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3"/>
          <p:cNvSpPr/>
          <p:nvPr/>
        </p:nvSpPr>
        <p:spPr>
          <a:xfrm>
            <a:off x="0" y="0"/>
            <a:ext cx="91440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A ______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says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______.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eslpod.com/eslpod_blog/wp-content/uploads/2008/05/pig-thumb.jpg"/>
          <p:cNvPicPr/>
          <p:nvPr/>
        </p:nvPicPr>
        <p:blipFill>
          <a:blip r:embed="rId1"/>
          <a:stretch/>
        </p:blipFill>
        <p:spPr>
          <a:xfrm>
            <a:off x="0" y="0"/>
            <a:ext cx="4525920" cy="40575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70160" y="5749920"/>
            <a:ext cx="306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oin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118120" y="4267080"/>
            <a:ext cx="280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aaa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28600" y="4267080"/>
            <a:ext cx="363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hello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4952880" y="5749920"/>
            <a:ext cx="393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chirp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Rectangular Callout 14"/>
          <p:cNvSpPr/>
          <p:nvPr/>
        </p:nvSpPr>
        <p:spPr>
          <a:xfrm>
            <a:off x="4876920" y="304920"/>
            <a:ext cx="3962160" cy="2895480"/>
          </a:xfrm>
          <a:prstGeom prst="wedgeRectCallout">
            <a:avLst>
              <a:gd name="adj1" fmla="val -60148"/>
              <a:gd name="adj2" fmla="val -16912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speak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ction Button: Custom 10">
            <a:hlinkClick r:id="rId1"/>
          </p:cNvPr>
          <p:cNvSpPr/>
          <p:nvPr/>
        </p:nvSpPr>
        <p:spPr>
          <a:xfrm>
            <a:off x="152280" y="152280"/>
            <a:ext cx="2362320" cy="2057400"/>
          </a:xfrm>
          <a:custGeom>
            <a:avLst/>
            <a:gdLst>
              <a:gd name="textAreaLeft" fmla="*/ 133200 w 2362320"/>
              <a:gd name="textAreaRight" fmla="*/ 2229120 w 23623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4801" h="21600">
                <a:moveTo>
                  <a:pt x="0" y="0"/>
                </a:moveTo>
                <a:lnTo>
                  <a:pt x="24801" y="0"/>
                </a:lnTo>
                <a:lnTo>
                  <a:pt x="24801" y="21600"/>
                </a:lnTo>
                <a:lnTo>
                  <a:pt x="0" y="21600"/>
                </a:lnTo>
                <a:close/>
              </a:path>
              <a:path fill="lightenLess" w="24801" h="21600">
                <a:moveTo>
                  <a:pt x="0" y="0"/>
                </a:moveTo>
                <a:lnTo>
                  <a:pt x="24801" y="0"/>
                </a:lnTo>
                <a:lnTo>
                  <a:pt x="23401" y="1400"/>
                </a:lnTo>
                <a:lnTo>
                  <a:pt x="1400" y="1400"/>
                </a:lnTo>
                <a:close/>
              </a:path>
              <a:path fill="darken" w="24801" h="21600">
                <a:moveTo>
                  <a:pt x="24801" y="0"/>
                </a:moveTo>
                <a:lnTo>
                  <a:pt x="24801" y="21600"/>
                </a:lnTo>
                <a:lnTo>
                  <a:pt x="23401" y="20200"/>
                </a:lnTo>
                <a:lnTo>
                  <a:pt x="23401" y="1400"/>
                </a:lnTo>
                <a:close/>
              </a:path>
              <a:path fill="darkenLess" w="24801" h="21600">
                <a:moveTo>
                  <a:pt x="24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1" y="20200"/>
                </a:lnTo>
                <a:close/>
              </a:path>
              <a:path fill="lighten" w="24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맑은 고딕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Action Button: Custom 15">
            <a:hlinkClick r:id="rId3"/>
          </p:cNvPr>
          <p:cNvSpPr/>
          <p:nvPr/>
        </p:nvSpPr>
        <p:spPr>
          <a:xfrm>
            <a:off x="6629400" y="4648320"/>
            <a:ext cx="2362320" cy="2057400"/>
          </a:xfrm>
          <a:custGeom>
            <a:avLst/>
            <a:gdLst>
              <a:gd name="textAreaLeft" fmla="*/ 133200 w 2362320"/>
              <a:gd name="textAreaRight" fmla="*/ 2229120 w 23623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4801" h="21600">
                <a:moveTo>
                  <a:pt x="0" y="0"/>
                </a:moveTo>
                <a:lnTo>
                  <a:pt x="24801" y="0"/>
                </a:lnTo>
                <a:lnTo>
                  <a:pt x="24801" y="21600"/>
                </a:lnTo>
                <a:lnTo>
                  <a:pt x="0" y="21600"/>
                </a:lnTo>
                <a:close/>
              </a:path>
              <a:path fill="lightenLess" w="24801" h="21600">
                <a:moveTo>
                  <a:pt x="0" y="0"/>
                </a:moveTo>
                <a:lnTo>
                  <a:pt x="24801" y="0"/>
                </a:lnTo>
                <a:lnTo>
                  <a:pt x="23401" y="1400"/>
                </a:lnTo>
                <a:lnTo>
                  <a:pt x="1400" y="1400"/>
                </a:lnTo>
                <a:close/>
              </a:path>
              <a:path fill="darken" w="24801" h="21600">
                <a:moveTo>
                  <a:pt x="24801" y="0"/>
                </a:moveTo>
                <a:lnTo>
                  <a:pt x="24801" y="21600"/>
                </a:lnTo>
                <a:lnTo>
                  <a:pt x="23401" y="20200"/>
                </a:lnTo>
                <a:lnTo>
                  <a:pt x="23401" y="1400"/>
                </a:lnTo>
                <a:close/>
              </a:path>
              <a:path fill="darkenLess" w="24801" h="21600">
                <a:moveTo>
                  <a:pt x="24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1" y="20200"/>
                </a:lnTo>
                <a:close/>
              </a:path>
              <a:path fill="lighten" w="24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맑은 고딕"/>
              </a:rPr>
              <a:t>9</a:t>
            </a:r>
            <a:endParaRPr b="0" lang="en-US" sz="1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Action Button: Custom 16">
            <a:hlinkClick r:id="rId5"/>
          </p:cNvPr>
          <p:cNvSpPr/>
          <p:nvPr/>
        </p:nvSpPr>
        <p:spPr>
          <a:xfrm>
            <a:off x="3352680" y="2362320"/>
            <a:ext cx="2362320" cy="2057400"/>
          </a:xfrm>
          <a:custGeom>
            <a:avLst/>
            <a:gdLst>
              <a:gd name="textAreaLeft" fmla="*/ 133200 w 2362320"/>
              <a:gd name="textAreaRight" fmla="*/ 2229120 w 23623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4801" h="21600">
                <a:moveTo>
                  <a:pt x="0" y="0"/>
                </a:moveTo>
                <a:lnTo>
                  <a:pt x="24801" y="0"/>
                </a:lnTo>
                <a:lnTo>
                  <a:pt x="24801" y="21600"/>
                </a:lnTo>
                <a:lnTo>
                  <a:pt x="0" y="21600"/>
                </a:lnTo>
                <a:close/>
              </a:path>
              <a:path fill="lightenLess" w="24801" h="21600">
                <a:moveTo>
                  <a:pt x="0" y="0"/>
                </a:moveTo>
                <a:lnTo>
                  <a:pt x="24801" y="0"/>
                </a:lnTo>
                <a:lnTo>
                  <a:pt x="23401" y="1400"/>
                </a:lnTo>
                <a:lnTo>
                  <a:pt x="1400" y="1400"/>
                </a:lnTo>
                <a:close/>
              </a:path>
              <a:path fill="darken" w="24801" h="21600">
                <a:moveTo>
                  <a:pt x="24801" y="0"/>
                </a:moveTo>
                <a:lnTo>
                  <a:pt x="24801" y="21600"/>
                </a:lnTo>
                <a:lnTo>
                  <a:pt x="23401" y="20200"/>
                </a:lnTo>
                <a:lnTo>
                  <a:pt x="23401" y="1400"/>
                </a:lnTo>
                <a:close/>
              </a:path>
              <a:path fill="darkenLess" w="24801" h="21600">
                <a:moveTo>
                  <a:pt x="24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1" y="20200"/>
                </a:lnTo>
                <a:close/>
              </a:path>
              <a:path fill="lighten" w="24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맑은 고딕"/>
              </a:rPr>
              <a:t>5</a:t>
            </a:r>
            <a:endParaRPr b="0" lang="en-US" sz="1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Action Button: Custom 17">
            <a:hlinkClick r:id="rId7"/>
          </p:cNvPr>
          <p:cNvSpPr/>
          <p:nvPr/>
        </p:nvSpPr>
        <p:spPr>
          <a:xfrm>
            <a:off x="152280" y="4648320"/>
            <a:ext cx="2362320" cy="2057400"/>
          </a:xfrm>
          <a:custGeom>
            <a:avLst/>
            <a:gdLst>
              <a:gd name="textAreaLeft" fmla="*/ 133200 w 2362320"/>
              <a:gd name="textAreaRight" fmla="*/ 2229120 w 23623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4801" h="21600">
                <a:moveTo>
                  <a:pt x="0" y="0"/>
                </a:moveTo>
                <a:lnTo>
                  <a:pt x="24801" y="0"/>
                </a:lnTo>
                <a:lnTo>
                  <a:pt x="24801" y="21600"/>
                </a:lnTo>
                <a:lnTo>
                  <a:pt x="0" y="21600"/>
                </a:lnTo>
                <a:close/>
              </a:path>
              <a:path fill="lightenLess" w="24801" h="21600">
                <a:moveTo>
                  <a:pt x="0" y="0"/>
                </a:moveTo>
                <a:lnTo>
                  <a:pt x="24801" y="0"/>
                </a:lnTo>
                <a:lnTo>
                  <a:pt x="23401" y="1400"/>
                </a:lnTo>
                <a:lnTo>
                  <a:pt x="1400" y="1400"/>
                </a:lnTo>
                <a:close/>
              </a:path>
              <a:path fill="darken" w="24801" h="21600">
                <a:moveTo>
                  <a:pt x="24801" y="0"/>
                </a:moveTo>
                <a:lnTo>
                  <a:pt x="24801" y="21600"/>
                </a:lnTo>
                <a:lnTo>
                  <a:pt x="23401" y="20200"/>
                </a:lnTo>
                <a:lnTo>
                  <a:pt x="23401" y="1400"/>
                </a:lnTo>
                <a:close/>
              </a:path>
              <a:path fill="darkenLess" w="24801" h="21600">
                <a:moveTo>
                  <a:pt x="24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1" y="20200"/>
                </a:lnTo>
                <a:close/>
              </a:path>
              <a:path fill="lighten" w="24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맑은 고딕"/>
              </a:rPr>
              <a:t>7</a:t>
            </a:r>
            <a:endParaRPr b="0" lang="en-US" sz="1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Action Button: Custom 18">
            <a:hlinkClick r:id="rId9"/>
          </p:cNvPr>
          <p:cNvSpPr/>
          <p:nvPr/>
        </p:nvSpPr>
        <p:spPr>
          <a:xfrm>
            <a:off x="6629400" y="152280"/>
            <a:ext cx="2362320" cy="2057400"/>
          </a:xfrm>
          <a:custGeom>
            <a:avLst/>
            <a:gdLst>
              <a:gd name="textAreaLeft" fmla="*/ 133200 w 2362320"/>
              <a:gd name="textAreaRight" fmla="*/ 2229120 w 23623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4801" h="21600">
                <a:moveTo>
                  <a:pt x="0" y="0"/>
                </a:moveTo>
                <a:lnTo>
                  <a:pt x="24801" y="0"/>
                </a:lnTo>
                <a:lnTo>
                  <a:pt x="24801" y="21600"/>
                </a:lnTo>
                <a:lnTo>
                  <a:pt x="0" y="21600"/>
                </a:lnTo>
                <a:close/>
              </a:path>
              <a:path fill="lightenLess" w="24801" h="21600">
                <a:moveTo>
                  <a:pt x="0" y="0"/>
                </a:moveTo>
                <a:lnTo>
                  <a:pt x="24801" y="0"/>
                </a:lnTo>
                <a:lnTo>
                  <a:pt x="23401" y="1400"/>
                </a:lnTo>
                <a:lnTo>
                  <a:pt x="1400" y="1400"/>
                </a:lnTo>
                <a:close/>
              </a:path>
              <a:path fill="darken" w="24801" h="21600">
                <a:moveTo>
                  <a:pt x="24801" y="0"/>
                </a:moveTo>
                <a:lnTo>
                  <a:pt x="24801" y="21600"/>
                </a:lnTo>
                <a:lnTo>
                  <a:pt x="23401" y="20200"/>
                </a:lnTo>
                <a:lnTo>
                  <a:pt x="23401" y="1400"/>
                </a:lnTo>
                <a:close/>
              </a:path>
              <a:path fill="darkenLess" w="24801" h="21600">
                <a:moveTo>
                  <a:pt x="24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1" y="20200"/>
                </a:lnTo>
                <a:close/>
              </a:path>
              <a:path fill="lighten" w="24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맑은 고딕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231" name="Action Button: Custom 19"/>
          <p:cNvGrpSpPr/>
          <p:nvPr/>
        </p:nvGrpSpPr>
        <p:grpSpPr>
          <a:xfrm>
            <a:off x="122400" y="2408400"/>
            <a:ext cx="2419200" cy="2041200"/>
            <a:chOff x="122400" y="2408400"/>
            <a:chExt cx="2419200" cy="2041200"/>
          </a:xfrm>
        </p:grpSpPr>
        <p:pic>
          <p:nvPicPr>
            <p:cNvPr id="232" name="Action Button: Custom 19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122400" y="2408400"/>
              <a:ext cx="2419200" cy="20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52280" y="2438280"/>
              <a:ext cx="236232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000000"/>
                  </a:solidFill>
                  <a:latin typeface="맑은 고딕"/>
                </a:rPr>
                <a:t>4</a:t>
              </a: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34" name="Action Button: Custom 20"/>
          <p:cNvGrpSpPr/>
          <p:nvPr/>
        </p:nvGrpSpPr>
        <p:grpSpPr>
          <a:xfrm>
            <a:off x="3322800" y="122400"/>
            <a:ext cx="2419200" cy="2041200"/>
            <a:chOff x="3322800" y="122400"/>
            <a:chExt cx="2419200" cy="2041200"/>
          </a:xfrm>
        </p:grpSpPr>
        <p:pic>
          <p:nvPicPr>
            <p:cNvPr id="235" name="Action Button: Custom 20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3322800" y="122400"/>
              <a:ext cx="2419200" cy="20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352680" y="152280"/>
              <a:ext cx="236232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000000"/>
                  </a:solidFill>
                  <a:latin typeface="맑은 고딕"/>
                </a:rPr>
                <a:t>2</a:t>
              </a: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37" name="Action Button: Custom 21"/>
          <p:cNvGrpSpPr/>
          <p:nvPr/>
        </p:nvGrpSpPr>
        <p:grpSpPr>
          <a:xfrm>
            <a:off x="6602400" y="2335320"/>
            <a:ext cx="2419200" cy="2035080"/>
            <a:chOff x="6602400" y="2335320"/>
            <a:chExt cx="2419200" cy="2035080"/>
          </a:xfrm>
        </p:grpSpPr>
        <p:pic>
          <p:nvPicPr>
            <p:cNvPr id="238" name="Action Button: Custom 21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6602400" y="2335320"/>
              <a:ext cx="241920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29400" y="2362320"/>
              <a:ext cx="23623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000000"/>
                  </a:solidFill>
                  <a:latin typeface="맑은 고딕"/>
                </a:rPr>
                <a:t>6</a:t>
              </a: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0" name="Action Button: Custom 22"/>
          <p:cNvGrpSpPr/>
          <p:nvPr/>
        </p:nvGrpSpPr>
        <p:grpSpPr>
          <a:xfrm>
            <a:off x="3322800" y="4621320"/>
            <a:ext cx="2419200" cy="2035080"/>
            <a:chOff x="3322800" y="4621320"/>
            <a:chExt cx="2419200" cy="2035080"/>
          </a:xfrm>
        </p:grpSpPr>
        <p:pic>
          <p:nvPicPr>
            <p:cNvPr id="241" name="Action Button: Custom 22" descr="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3322800" y="4621320"/>
              <a:ext cx="241920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352680" y="4648320"/>
              <a:ext cx="23623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000000"/>
                  </a:solidFill>
                  <a:latin typeface="맑은 고딕"/>
                </a:rPr>
                <a:t>8</a:t>
              </a: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eslpod.com/eslpod_blog/wp-content/uploads/2008/05/pig-thumb.jpg"/>
          <p:cNvPicPr/>
          <p:nvPr/>
        </p:nvPicPr>
        <p:blipFill>
          <a:blip r:embed="rId1"/>
          <a:stretch/>
        </p:blipFill>
        <p:spPr>
          <a:xfrm>
            <a:off x="0" y="0"/>
            <a:ext cx="47592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ular Callout 4"/>
          <p:cNvSpPr/>
          <p:nvPr/>
        </p:nvSpPr>
        <p:spPr>
          <a:xfrm>
            <a:off x="5105520" y="1295280"/>
            <a:ext cx="3733560" cy="2895840"/>
          </a:xfrm>
          <a:prstGeom prst="wedgeRectCallout">
            <a:avLst>
              <a:gd name="adj1" fmla="val -69532"/>
              <a:gd name="adj2" fmla="val 25347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5022360" y="2133720"/>
            <a:ext cx="402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. oink!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mrana.typepad.com/bitbybit/images/2007/11/18/171rooster_3.jpg"/>
          <p:cNvPicPr/>
          <p:nvPr/>
        </p:nvPicPr>
        <p:blipFill>
          <a:blip r:embed="rId1"/>
          <a:stretch/>
        </p:blipFill>
        <p:spPr>
          <a:xfrm>
            <a:off x="5410080" y="-19080"/>
            <a:ext cx="3733920" cy="4119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611280" y="5749920"/>
            <a:ext cx="337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Slec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118120" y="4267080"/>
            <a:ext cx="299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AAA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0" y="403848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rlow Solid Italic"/>
              </a:rPr>
              <a:t>A. cockle-doodle-do!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5348520" y="5749920"/>
            <a:ext cx="3352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kiriki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Rectangular Callout 14"/>
          <p:cNvSpPr/>
          <p:nvPr/>
        </p:nvSpPr>
        <p:spPr>
          <a:xfrm>
            <a:off x="228600" y="228600"/>
            <a:ext cx="4876920" cy="3124080"/>
          </a:xfrm>
          <a:prstGeom prst="wedgeRectCallout">
            <a:avLst>
              <a:gd name="adj1" fmla="val 58694"/>
              <a:gd name="adj2" fmla="val -27129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wake up people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mrana.typepad.com/bitbybit/images/2007/11/18/171rooster_3.jpg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ular Callout 4"/>
          <p:cNvSpPr/>
          <p:nvPr/>
        </p:nvSpPr>
        <p:spPr>
          <a:xfrm>
            <a:off x="152280" y="990720"/>
            <a:ext cx="4876920" cy="2895480"/>
          </a:xfrm>
          <a:prstGeom prst="wedgeRectCallout">
            <a:avLst>
              <a:gd name="adj1" fmla="val 60347"/>
              <a:gd name="adj2" fmla="val -25736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52280" y="990720"/>
            <a:ext cx="4876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Harlow Solid Italic"/>
              </a:rPr>
              <a:t>A. cockle-doodle-do!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5:39:10Z</dcterms:created>
  <dc:creator>HP</dc:creator>
  <dc:description/>
  <dc:language>en-US</dc:language>
  <cp:lastModifiedBy>영어실교사용</cp:lastModifiedBy>
  <dcterms:modified xsi:type="dcterms:W3CDTF">2011-03-11T02:38:00Z</dcterms:modified>
  <cp:revision>8</cp:revision>
  <dc:subject/>
  <dc:title>Slide 1</dc:title>
</cp:coreProperties>
</file>